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49115"/>
        <c:axId val="80390315"/>
      </c:barChart>
      <c:catAx>
        <c:axId val="93949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90315"/>
        <c:crosses val="autoZero"/>
        <c:auto val="1"/>
        <c:lblAlgn val="ctr"/>
        <c:lblOffset val="100"/>
        <c:noMultiLvlLbl val="0"/>
      </c:catAx>
      <c:valAx>
        <c:axId val="80390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49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975-2578-4040-BD25-B57C446E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166-1A04-4CCC-89B4-AC1FAF63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5F1-ED9D-466A-8004-1EA4A22D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41C-4F6D-4AAB-ABF7-22BA8887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3BC-DC3F-4BF1-AB5F-54F42975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DAD-37BC-4A3C-9051-D909224C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475-A115-46B2-AAAF-D458A5EF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E6E-7677-40AC-946E-8AAF2AF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71E-64B5-470B-892A-D561A683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10E-C490-4B1D-9A24-85171EF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6A4-89FD-4679-8020-E1CFA8A4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5AB-9581-49AA-B017-57F5EDE4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C63E1-CD27-4F00-B867-FFFEB24AEA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