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84053"/>
        <c:axId val="44167371"/>
      </c:barChart>
      <c:catAx>
        <c:axId val="45384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67371"/>
        <c:crosses val="autoZero"/>
        <c:auto val="1"/>
        <c:lblAlgn val="ctr"/>
        <c:lblOffset val="100"/>
        <c:noMultiLvlLbl val="0"/>
      </c:catAx>
      <c:valAx>
        <c:axId val="44167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4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8FA-9A34-484C-B351-59195C67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3EE-67B5-4B52-A50A-917C14AE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98D-5807-4DD8-803F-D438D4C4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21C-CEE8-4BFF-AA63-E3113DAF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1AB-3CB9-4B97-8F8B-15DD3E4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378-F78B-4278-A182-E3C4ED0A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91A-6258-450C-B094-0E35609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CC2-691D-4B7C-A563-BB5217E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A4C-2160-4AAB-BEA0-71EA76AC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66C-8E74-4B10-832F-FC603B7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9F5-EC94-49B1-8889-FD6D7C7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BDF-5CE7-4E4F-8353-C32E7FAE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46937-391D-4B3D-B21D-F15F6BF2DD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