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51203"/>
        <c:axId val="45192894"/>
      </c:barChart>
      <c:catAx>
        <c:axId val="66351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92894"/>
        <c:crosses val="autoZero"/>
        <c:auto val="1"/>
        <c:lblAlgn val="ctr"/>
        <c:lblOffset val="100"/>
        <c:noMultiLvlLbl val="0"/>
      </c:catAx>
      <c:valAx>
        <c:axId val="45192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51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2B2-C2DB-44A6-B64E-9DD56F4F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3A5-5802-4D0C-A497-42BC991A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1A1-4234-4204-B9C1-1111D39C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9C3-3CBA-4370-B01D-FE58EEB6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F37-F78C-47E5-886C-832A59CA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9EF-4978-48B1-AA51-E3067BF1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9D0-4EEE-43E4-A697-EBDF6368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A1C-E694-45F5-A4BE-C0841159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560-DF63-460D-9276-0B057C68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39F-E526-4856-B7A6-450E0B9A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6BC-5796-4F0A-B5B1-F376895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ECD-55BF-41D8-BF57-99A46B11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3B10A-F732-4C73-8551-4F75B50791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