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25368"/>
        <c:axId val="79344296"/>
      </c:barChart>
      <c:catAx>
        <c:axId val="52925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44296"/>
        <c:crosses val="autoZero"/>
        <c:auto val="1"/>
        <c:lblAlgn val="ctr"/>
        <c:lblOffset val="100"/>
        <c:noMultiLvlLbl val="0"/>
      </c:catAx>
      <c:valAx>
        <c:axId val="79344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25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402-2170-4662-A5CD-6BC6C23B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61D-A0F7-4A95-A984-5DF02C33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B43-4427-494B-860A-08FA3B84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FE5-0A95-4FF3-89CF-F1EC3EE4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E43-A98E-4779-833A-AECFC3A4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537-7111-4323-9DB7-97DD438F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8EB-8B59-4AF3-8D89-A83F1753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21E-03BD-4AB7-9C92-2EDFAD59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F46-AA0D-4E27-867C-9134B724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449-AA74-4C06-A470-A3AC8F24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D04-0B11-4F5D-AFCA-6730E794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12C-6825-4B01-BE70-EC5CA9A8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C6DE1-EC6A-4A7F-BEC2-29AC2E977D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