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42697"/>
        <c:axId val="15858711"/>
      </c:barChart>
      <c:catAx>
        <c:axId val="75342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58711"/>
        <c:crosses val="autoZero"/>
        <c:auto val="1"/>
        <c:lblAlgn val="ctr"/>
        <c:lblOffset val="100"/>
        <c:noMultiLvlLbl val="0"/>
      </c:catAx>
      <c:valAx>
        <c:axId val="15858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42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C6B-095D-4055-8F4B-614B847C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72A-66FC-4035-A778-BBCF99A7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AB0-04E7-4647-ACDE-2D4366E0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78F-061D-4F8E-BD9B-53133DBF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018-FDF3-493A-8190-174E9B97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14D-0722-40FA-BBFF-F2EAD38C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132-6E5B-408B-9188-D025FFA6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BD8-CBD0-488F-8CBA-3840BFE5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605-4E0F-4C18-918F-BC7AF7DD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470-BA10-4407-9129-F55A533D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AC2-D233-4F3F-85D9-451EF754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308-EA80-4955-9AB2-2AA59B20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9C1E7-9413-46FA-AB4B-EAF9BD00FB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