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83859"/>
        <c:axId val="63587592"/>
      </c:barChart>
      <c:catAx>
        <c:axId val="33483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87592"/>
        <c:crosses val="autoZero"/>
        <c:auto val="1"/>
        <c:lblAlgn val="ctr"/>
        <c:lblOffset val="100"/>
        <c:noMultiLvlLbl val="0"/>
      </c:catAx>
      <c:valAx>
        <c:axId val="63587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83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415-75C2-4561-80D7-DB37A48B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A38-ADE6-4911-A944-8C73ABF7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72C-F428-4AF8-A511-A423EF92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7A9-522B-40F2-927D-01AD919C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35E-F7FB-4E3B-902E-3FBABCD2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16D-1324-43D0-9BF2-876D3ED4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C43-E017-452B-8BFE-D9F17CF5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88E-B561-43CB-B813-56A2863E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064-165B-49EE-861A-53F0D0A4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4FC-1F08-4E3C-8E17-96E5F7BB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FFC-36B7-4828-B041-ECF8940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C3E-0CBA-4AC9-805F-FBA993ED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248B1-6A8E-4DA6-A154-4C91428906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