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33202"/>
        <c:axId val="95454508"/>
      </c:barChart>
      <c:catAx>
        <c:axId val="20633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54508"/>
        <c:crosses val="autoZero"/>
        <c:auto val="1"/>
        <c:lblAlgn val="ctr"/>
        <c:lblOffset val="100"/>
        <c:noMultiLvlLbl val="0"/>
      </c:catAx>
      <c:valAx>
        <c:axId val="95454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33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57B-E6DA-428E-840D-A7F7F832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159-17D2-4D12-AD3C-5F26B299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258-15C1-45C2-B63B-3A82E042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621-7B6C-41E2-A0BD-37322BD0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48F-46C9-41D6-B8B8-0852E142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700-7052-446E-810F-1615D8FA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B4C-124B-4D43-9C4F-0DAE8B53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1A1-4AC9-47BB-8A49-40050557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540-1450-4CBD-8C69-D1690AB5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D8B-A136-4079-8EC5-AE831AD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17B-372B-4CE1-92FE-494E8F6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042-AEFB-4A46-B044-B363AE5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48A05-9B7C-447E-AC57-82FC2B5864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