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440990"/>
        <c:axId val="33365993"/>
      </c:barChart>
      <c:catAx>
        <c:axId val="23440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65993"/>
        <c:crosses val="autoZero"/>
        <c:auto val="1"/>
        <c:lblAlgn val="ctr"/>
        <c:lblOffset val="100"/>
        <c:noMultiLvlLbl val="0"/>
      </c:catAx>
      <c:valAx>
        <c:axId val="33365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40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033-3D6F-4E4F-8677-CCD79878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7A2-76C4-4A8D-B9F1-2D471B70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0AFF-DAAA-41D8-BA23-68682599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783-7ECD-414D-8506-5D47BBDD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4CE-E4BE-4572-BD0F-ABF4F442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E88-2FDD-4A08-BED0-8182A6DD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971-C73D-4C01-A5D3-801F8D63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CF9-6E58-4FC6-A3B5-0C079183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BF90-E9CA-40ED-84F6-6AE04D65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B52A-9E3B-4FA3-841D-20107499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EF1E-CB30-4603-B396-6CD33DAA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F53-E55E-44A1-BB8C-0DAE5965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F0867-E926-41E2-9725-92F20884B6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