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550873"/>
        <c:axId val="27568586"/>
      </c:barChart>
      <c:catAx>
        <c:axId val="905508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568586"/>
        <c:crosses val="autoZero"/>
        <c:auto val="1"/>
        <c:lblAlgn val="ctr"/>
        <c:lblOffset val="100"/>
        <c:noMultiLvlLbl val="0"/>
      </c:catAx>
      <c:valAx>
        <c:axId val="275685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508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C873-05D4-4351-AF3A-0D325C3B6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3BAD-93CC-44DB-AE16-1F922F42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D0BD-EE8D-461D-9500-A71D74726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47C9-7C14-4BA8-9EF0-A213992B3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C07F-B171-4DAA-A529-648B472B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F32A-2E86-4C88-8823-DC2959A9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7790-BF43-4C2F-8CA1-2DEEFCDC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6929-BDF8-440C-B453-C753157A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0305-8FC5-48D4-935A-AEAAFFE0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0A6B-F141-4AD2-8F38-4445425D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48A1-149B-401C-8623-618D23AE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E3BB-EB19-4607-9666-0F8C9B12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C4997-FBB0-4A0E-BA86-48A41A0901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