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18541"/>
        <c:axId val="61389785"/>
      </c:barChart>
      <c:catAx>
        <c:axId val="69918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89785"/>
        <c:crosses val="autoZero"/>
        <c:auto val="1"/>
        <c:lblAlgn val="ctr"/>
        <c:lblOffset val="100"/>
        <c:noMultiLvlLbl val="0"/>
      </c:catAx>
      <c:valAx>
        <c:axId val="61389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18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9B3-B15F-4A08-B44C-5CCF2098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50A6-FAE0-4AA0-829B-BB07F0BD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5C5-47B5-46E1-8C51-99490FA9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1EC2-9997-478D-BA24-F6B0AF23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C07A-F96E-4CA1-9ED4-055A21DC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3E8-5001-4967-A5FA-5B178F1F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D9E9-8CF4-41EF-BF19-1559CF52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AEB-9313-4790-AF0A-3662AE70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8E9-E38B-48E9-8F8D-F85EFE21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A1C-B9DB-4210-A0AF-1B880761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FA9-FE93-42FA-834B-A637C246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C54-F45D-4788-8EEB-AD1C036F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50AE3-D035-4601-B9FC-E4CA9450A0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