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5587786"/>
        <c:axId val="50284136"/>
      </c:barChart>
      <c:catAx>
        <c:axId val="1558778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284136"/>
        <c:crosses val="autoZero"/>
        <c:auto val="1"/>
        <c:lblAlgn val="ctr"/>
        <c:lblOffset val="100"/>
        <c:noMultiLvlLbl val="0"/>
      </c:catAx>
      <c:valAx>
        <c:axId val="5028413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58778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5B17-004C-4800-9822-5EADCB8C6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3ED2-19F9-4B97-A589-7E5C6F733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CC6E-7DD3-4CF7-A6DD-2EDE26444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4F66-F64E-4F06-A807-585E950F0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F5B9-82E0-4DA0-BDD4-F1DAC255B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6BAC-BBA6-4581-B101-761A89F67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3D12-BD60-4406-ACA1-2D024E7AF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4032-D738-4BD6-B545-D48178D63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4413-0822-40C0-B475-5543A8669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B6C3-D430-4FBB-9B83-7E192DD11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23FC-F582-4BBF-B64C-212C7743D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33F1-C4C3-4132-9B8E-1F26F26E8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71908A-AD84-4944-91F2-CECE2971025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