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26074"/>
        <c:axId val="67460029"/>
      </c:barChart>
      <c:catAx>
        <c:axId val="17326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60029"/>
        <c:crosses val="autoZero"/>
        <c:auto val="1"/>
        <c:lblAlgn val="ctr"/>
        <c:lblOffset val="100"/>
        <c:noMultiLvlLbl val="0"/>
      </c:catAx>
      <c:valAx>
        <c:axId val="67460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26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E1A-2684-4540-B381-C6D8DDF3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4B4-47CE-4AD6-B0C0-735DB215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543-869C-43F6-BC65-583A247A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04F-F1E0-4E7B-B6E6-AC20EEBA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EE5-A2BF-4A34-BE5F-8AB03F0C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7D2-D2DB-490B-BD8B-F886295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609-EBFD-4F45-821D-55BAD9B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2CF-F606-4039-98C2-E8D2504B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EAE-DAEE-4441-95AF-4180B9B4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5EE-FE65-4726-B767-7B9367DD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9C3-B50C-43AC-9376-323B362E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4FB-AA5F-41F1-8F21-7F713CE9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CEFA4-1C72-4424-B913-2158A10A2D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