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61008"/>
        <c:axId val="31335451"/>
      </c:barChart>
      <c:catAx>
        <c:axId val="52761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35451"/>
        <c:crosses val="autoZero"/>
        <c:auto val="1"/>
        <c:lblAlgn val="ctr"/>
        <c:lblOffset val="100"/>
        <c:noMultiLvlLbl val="0"/>
      </c:catAx>
      <c:valAx>
        <c:axId val="313354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61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2AB0-6422-455C-92BF-2F909853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8DE3-8CA5-48C3-95DE-9205B843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EA73-9E57-440D-8E4E-6D5862F5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FD72-7563-410F-8452-2CC9BA9D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446-C424-48A0-8E04-AB2E5E41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D64-D22E-4B59-8C1E-DA2954FA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FDF-9D01-4BD2-B645-A5071479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501-3A06-4ABB-84EB-ED327D25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A4F7-A14A-4E8F-A5A7-05B4B492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648-7339-49F6-8D2C-5FC15476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1438-9F95-4402-88BE-B7BD761F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2DA-5738-440F-84F9-988A2354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839BF-3D30-4486-82D1-1EB9BFFBBC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