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83866"/>
        <c:axId val="80761459"/>
      </c:barChart>
      <c:catAx>
        <c:axId val="56083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61459"/>
        <c:crosses val="autoZero"/>
        <c:auto val="1"/>
        <c:lblAlgn val="ctr"/>
        <c:lblOffset val="100"/>
        <c:noMultiLvlLbl val="0"/>
      </c:catAx>
      <c:valAx>
        <c:axId val="80761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83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5BC-D23D-46FC-B57D-27AD8B28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1BA-0250-4058-8C63-E102D9B5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4A47-8118-4580-942B-325F176F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915-9717-48BA-A702-9403E0BC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4B3-48C4-4EBD-A8E3-CB5A8EB3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CCE-53FC-4CD7-AA24-67F0B37B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D34-18C4-462C-9236-6635AC9C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9F5-D35E-4215-9EFF-1E6FF1FF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551-A1A3-4848-8703-A2F31531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F09C-8A3F-4518-BDE2-93C73532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DF6D-4453-44EC-9ECF-1363B81C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247-F583-41BE-B611-1152ACB5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6E2ED-93EE-4E29-B83B-A9A817B8DC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