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676158"/>
        <c:axId val="58781700"/>
      </c:barChart>
      <c:catAx>
        <c:axId val="75676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81700"/>
        <c:crosses val="autoZero"/>
        <c:auto val="1"/>
        <c:lblAlgn val="ctr"/>
        <c:lblOffset val="100"/>
        <c:noMultiLvlLbl val="0"/>
      </c:catAx>
      <c:valAx>
        <c:axId val="58781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76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3B7-FEFB-406F-B65D-29C08A5E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9460-D8E8-4B6A-9082-25A76E04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C2EF-5D3F-4BC7-BFBA-033C0E52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F3A-5217-4B0F-830B-64DB8BD1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4C21-5EB4-41C7-BD62-624B52F6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0EC6-FAEB-4D67-9E4A-6257DF49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11D-8BFA-4545-A559-F35A8BF9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D42-7B2E-4F12-96C8-23443C44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90B-7C58-4C56-B14B-ED2EB0BD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36C6-9AA5-4F77-AEF5-91ED3CB7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8F7-3013-4A4E-A863-CA414A2C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359-23D4-4BA6-98DA-CA638F45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B7A03-5220-49C8-AE3D-4D60A5CBEC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