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73336"/>
        <c:axId val="4064473"/>
      </c:barChart>
      <c:catAx>
        <c:axId val="82973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4473"/>
        <c:crosses val="autoZero"/>
        <c:auto val="1"/>
        <c:lblAlgn val="ctr"/>
        <c:lblOffset val="100"/>
        <c:noMultiLvlLbl val="0"/>
      </c:catAx>
      <c:valAx>
        <c:axId val="4064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73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94B-555E-4965-860D-3D7CAEDF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D83-B9B2-4E1C-8C52-085A203C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AB2-27AF-4131-B69D-CCD5A8B4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B3C-8464-4186-A137-7A1FCA0E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B19-AD88-4563-ADE3-0383DC97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12F-1A78-454F-9ABF-95109E66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05CD-2105-4FDB-95BE-BEBF76C1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6D8-650D-4135-8C93-4EEFDDE5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1B4-A3A3-46C6-91BE-A6CB88A1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756-EA0E-4BC0-8D88-FC4574A2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780-7C4D-4565-A006-8EAA477A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C4E-8A53-4B30-B7C4-903742D9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98546-3012-4C53-84E1-FF8D09DAC8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