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15972"/>
        <c:axId val="59237252"/>
      </c:barChart>
      <c:catAx>
        <c:axId val="83615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37252"/>
        <c:crosses val="autoZero"/>
        <c:auto val="1"/>
        <c:lblAlgn val="ctr"/>
        <c:lblOffset val="100"/>
        <c:noMultiLvlLbl val="0"/>
      </c:catAx>
      <c:valAx>
        <c:axId val="59237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15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E3C-378D-458B-8B8F-11A5570A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11C-A98F-4804-8558-648ECD2D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FCB-0398-4731-B1C3-7DFEC494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D26-8E94-45B7-A3F3-79443158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81A-FC45-40C5-BB77-7EC69AD3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AB8-8A5D-41AF-A37F-3C588D20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70A-1A5A-417B-B536-C3508DDF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E24-318D-44B6-9722-3D61B4D1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B5B-F7B9-4DE5-8C57-C9AA2BBB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232-CCBE-4C31-BBA5-D81DA197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C01-2B09-45E9-8C66-3D2C27D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4C6-4F2A-4A4B-B046-E1F4B442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B0C9E-7DAF-433D-A11B-2BB1F4BC0A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