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17927"/>
        <c:axId val="67994711"/>
      </c:barChart>
      <c:catAx>
        <c:axId val="498179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94711"/>
        <c:crosses val="autoZero"/>
        <c:auto val="1"/>
        <c:lblAlgn val="ctr"/>
        <c:lblOffset val="100"/>
        <c:noMultiLvlLbl val="0"/>
      </c:catAx>
      <c:valAx>
        <c:axId val="679947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179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CD40-026D-46D2-9B94-3EEBCEF1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BF57-96FD-4AAA-B5B7-EBBEEFC6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2654-3D24-4A08-BF79-06805A14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3077-5794-4AF7-87AB-ACB9808A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85BA-BC4A-4CAB-AFD9-B692AF6D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72A-9A3B-4B41-A795-EC249E0E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FBDF-1384-48B9-861D-A3BE3528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B76-76BD-4CC0-81EF-1587524F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3EE3-A6D4-4311-93DF-59A68102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8536-D6B4-40F8-B882-C073E4D0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26E-2FF1-411E-9653-ADA0D2C5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1979-BE3A-487C-A44A-C8A4C9D8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E4EA0-4B40-4FD3-A964-960CE9436C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