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57089"/>
        <c:axId val="24191091"/>
      </c:barChart>
      <c:catAx>
        <c:axId val="40557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91091"/>
        <c:crosses val="autoZero"/>
        <c:auto val="1"/>
        <c:lblAlgn val="ctr"/>
        <c:lblOffset val="100"/>
        <c:noMultiLvlLbl val="0"/>
      </c:catAx>
      <c:valAx>
        <c:axId val="24191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57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0CB-845E-45DA-AE27-BFAF43AB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218-83F5-4703-B742-0B02E17A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FBC-BBC7-4477-B5FE-1E68DF86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3F0-6A38-4C85-82A3-56006BD4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120-4DA0-4BB2-A4E3-D574ED89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54E-936F-4F5B-83CC-BC10C8AB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8DC-A5EA-4667-B5B9-1FF1CDEC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F34-0E48-41B0-A257-69031BF5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D86-2BED-4269-BA91-A159125B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6E39-6872-4C4C-98F6-27E52F78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4D7-3572-4269-A1B7-C2484A4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310-D6EE-47AA-9156-567F346A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80AC3-07FB-44DD-878E-FD653E2FCF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