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74916"/>
        <c:axId val="82881953"/>
      </c:barChart>
      <c:catAx>
        <c:axId val="22874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81953"/>
        <c:crosses val="autoZero"/>
        <c:auto val="1"/>
        <c:lblAlgn val="ctr"/>
        <c:lblOffset val="100"/>
        <c:noMultiLvlLbl val="0"/>
      </c:catAx>
      <c:valAx>
        <c:axId val="82881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74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A6F-4439-4F61-9621-6B187B66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F906-4F0A-40E2-A107-8E9D3B56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753-8A20-4677-A6E9-C005AD00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971-94C8-4E73-A19A-FFDDBCED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D394-2207-458F-BE75-4D16E299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110-BCEE-4439-B4F5-62A90DD1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BA5-623F-48BF-A8D8-D807D1ED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CF4-4CBC-4B31-800E-638A3819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67B3-94C8-472A-ABBE-1A5A42F7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97AA-5DAB-4436-83D8-586A4EB4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FB9-0731-439C-87EF-F81A1DEC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0A7-67ED-4973-8CFD-76C4F4BD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4873B-740B-4E95-8D1B-45556BBF6B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