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90446"/>
        <c:axId val="38442983"/>
      </c:barChart>
      <c:catAx>
        <c:axId val="52490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2983"/>
        <c:crosses val="autoZero"/>
        <c:auto val="1"/>
        <c:lblAlgn val="ctr"/>
        <c:lblOffset val="100"/>
        <c:noMultiLvlLbl val="0"/>
      </c:catAx>
      <c:valAx>
        <c:axId val="38442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0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8A8-479F-43B5-84C4-5353567C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300-6717-430D-A549-BBDDFB4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84D-C633-455A-B31B-E02619C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B96-68B4-4B7A-8102-067A43E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92F-F0D0-4589-B032-08F3DE8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C07-5878-4795-8CE9-4DF9E16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185-DF1E-4A57-AE0F-33D2A33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BC7-5852-4460-A29B-0BEC312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923-8DED-4831-AAD4-75F5FFDF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7F6-1385-4E61-85DC-D518A63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68B-A7A6-43A3-BA36-7A40D91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41C-C496-406B-9262-FC2806F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59B9-0596-4F62-81E7-E79C9AA17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