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0276"/>
        <c:axId val="52950326"/>
      </c:barChart>
      <c:catAx>
        <c:axId val="23290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50326"/>
        <c:crosses val="autoZero"/>
        <c:auto val="1"/>
        <c:lblAlgn val="ctr"/>
        <c:lblOffset val="100"/>
        <c:noMultiLvlLbl val="0"/>
      </c:catAx>
      <c:valAx>
        <c:axId val="52950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0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3AD-0F12-4931-8F8F-E791818A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577-9866-4491-8A8A-618C56B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812-E67D-40F4-B7EF-1EF946EA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298-94CF-47A1-9DD5-7EDC5C28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CA5-894C-45BC-B5BB-C1867E4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DEC-67BD-48D8-A5A2-83E51721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959-0C63-4430-B7BD-7D7C0B48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DDD-B3C9-4D5E-A054-CB1BA586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83C-1734-47B1-906C-F5079B57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9B2-3B96-492A-BA4B-B39C4B4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1C8-37AE-4FC2-AAF3-81CBFDE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E6C-1D5B-4159-B589-A5B8E77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103A6-0719-4C2B-A1C0-E81FAFFA5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