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012886"/>
        <c:axId val="31934685"/>
      </c:barChart>
      <c:catAx>
        <c:axId val="700128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934685"/>
        <c:crosses val="autoZero"/>
        <c:auto val="1"/>
        <c:lblAlgn val="ctr"/>
        <c:lblOffset val="100"/>
        <c:noMultiLvlLbl val="0"/>
      </c:catAx>
      <c:valAx>
        <c:axId val="319346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0128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F069-240A-42B7-8F6E-51216ED24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7FB6-6BCC-4523-A0CD-C353B6BA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4D77-8872-40C2-AFD5-02474ED48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68E6-A616-437D-8C1D-89DB0F2A6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A3FC-865E-4E94-A39A-D8C5D057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52EE-1874-4A17-A449-A6D2E780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A024-1111-47CA-ADA3-D2D7BDE3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71C4-D55B-46D8-B201-EA828645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05BA-619F-4376-8A5C-B321A9DC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9DE4-1049-4F7F-8FCF-156FD110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EE55-1F44-4590-AF4F-83DDCC9F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D6F7-2F12-4C4C-B5B5-D12B9708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458EAE-5183-47B3-ACA3-0EEF02C996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