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414913"/>
        <c:axId val="51762133"/>
      </c:barChart>
      <c:catAx>
        <c:axId val="144149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762133"/>
        <c:crosses val="autoZero"/>
        <c:auto val="1"/>
        <c:lblAlgn val="ctr"/>
        <c:lblOffset val="100"/>
        <c:noMultiLvlLbl val="0"/>
      </c:catAx>
      <c:valAx>
        <c:axId val="517621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4149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F7F1-CD2C-4257-BB9D-D30CAA3C9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E5BB-0AA6-4878-B890-B75ACF3C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4336-0B26-4935-9535-BAD2FD91C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E10F-0D93-42DD-9DE0-17693240C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BDA5-A2A8-4E21-9784-A843009B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455D-9791-495A-8995-62B1E86C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FD2E-8567-4039-9921-58FFF7F1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8582-5850-4C1B-BBA5-EF32C891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DBD3-40EB-403B-B783-E1934896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1301-2407-4DAF-9941-44785458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D751-C113-47A4-A184-12BFB75F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8CEE-3AF0-4CC5-A92B-8D999E59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E82A8-34C8-47E9-B69B-DCF93F0A58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