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70873"/>
        <c:axId val="80375457"/>
      </c:barChart>
      <c:catAx>
        <c:axId val="54670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75457"/>
        <c:crosses val="autoZero"/>
        <c:auto val="1"/>
        <c:lblAlgn val="ctr"/>
        <c:lblOffset val="100"/>
        <c:noMultiLvlLbl val="0"/>
      </c:catAx>
      <c:valAx>
        <c:axId val="80375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70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7EE-9D1C-426F-95D9-0DB04D48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A52-819E-45BC-8274-F1FEC7E0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126-7A63-4736-A3ED-63D91F5A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9AD-DD61-467A-AEB4-DE8155CD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74C-DC7A-4ABE-B6FC-FA07F920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0E6-7BA5-4421-B33D-C043B4FE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998-529A-4559-8376-4FC40CFC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EF5-DDCB-4DE8-9352-A06407A4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AF4-F63C-4161-8147-15BE1FBD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F56-9474-455D-A7DD-BEEBCE19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270-022C-4AC4-97EC-8161694D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969-DF60-4447-B9CE-4E78D6DC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2E6C3-B79A-45C7-A16E-138CAFFF7E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