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10054"/>
        <c:axId val="87115174"/>
      </c:barChart>
      <c:catAx>
        <c:axId val="8010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15174"/>
        <c:crosses val="autoZero"/>
        <c:auto val="1"/>
        <c:lblAlgn val="ctr"/>
        <c:lblOffset val="100"/>
        <c:noMultiLvlLbl val="0"/>
      </c:catAx>
      <c:valAx>
        <c:axId val="87115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0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5832-7748-4E16-A82E-894CC5F5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FD20-EBD5-4D1A-A250-91D61F9F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5E2-0F04-49BF-97FC-B29A6D78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F94-6C6A-425A-84C6-C353D1EB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48B1-5717-4F51-B82E-BFB9D79B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AC80-D049-4743-A857-654CE216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4DA-461C-456B-A8D3-6AEE128B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6FF1-11EA-49C6-8619-C363977F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544-A332-40C1-AF10-B3E437FD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751E-DBA4-4850-A36A-B847BE78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B3B0-3743-45A5-A9B3-98178A04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6470-D1A3-423B-AAEA-92C0F393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C941C-1377-4636-BC94-C488E9EAE3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