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238681"/>
        <c:axId val="88225168"/>
      </c:barChart>
      <c:catAx>
        <c:axId val="692386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25168"/>
        <c:crosses val="autoZero"/>
        <c:auto val="1"/>
        <c:lblAlgn val="ctr"/>
        <c:lblOffset val="100"/>
        <c:noMultiLvlLbl val="0"/>
      </c:catAx>
      <c:valAx>
        <c:axId val="882251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386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5E31-DB2A-4485-8EE9-6028AD36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83D-3DC8-465F-B5E1-DEF89EB3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04EC-00F8-4FE4-8942-FF45C7F7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2B9-296F-4D3D-A155-CEF874B7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28B-AF74-4F15-BBAA-691A1C9D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7A3-D7D4-42C7-9C38-BCDD9F15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04E-0A28-4E94-9184-461CAC8B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B8B8-BE45-4B74-A917-29A55B86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402-371C-405F-970A-C7389B45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2A77-AFA0-4469-BA84-10F333E4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2EB-B581-44D2-999D-69DCBFF2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6B2-91E4-4FBB-8DB8-2C6CA2A1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E2061-AE7F-4038-8924-60158586A9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