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59772"/>
        <c:axId val="50003171"/>
      </c:barChart>
      <c:catAx>
        <c:axId val="50959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3171"/>
        <c:crosses val="autoZero"/>
        <c:auto val="1"/>
        <c:lblAlgn val="ctr"/>
        <c:lblOffset val="100"/>
        <c:noMultiLvlLbl val="0"/>
      </c:catAx>
      <c:valAx>
        <c:axId val="50003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59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837-C4DA-4630-B815-9403D4D5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A82-145F-4B5D-B617-6409981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8FC-611D-4B8C-ACE0-2EE7F684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D36-D81A-4B96-AE53-69D26A30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E3C-F1DB-421C-86B2-3923CD1B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680-8AAF-4C19-9074-E67C0142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39C-0C3C-424D-BF8C-D688833A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276-DC78-410D-B464-DD41435A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484-2DBB-43C4-B90E-FF838BF0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B72-258E-4331-B069-44B9C4E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1BF-0F59-4950-BE8F-A167347C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D7E-F10F-4913-955D-2BF74FB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2515-BCBF-4589-9EC4-A95613AAE1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