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7873"/>
        <c:axId val="32691885"/>
      </c:barChart>
      <c:catAx>
        <c:axId val="9107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1885"/>
        <c:crosses val="autoZero"/>
        <c:auto val="1"/>
        <c:lblAlgn val="ctr"/>
        <c:lblOffset val="100"/>
        <c:noMultiLvlLbl val="0"/>
      </c:catAx>
      <c:valAx>
        <c:axId val="32691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7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608-1B16-4E10-A42B-B5E2E473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7BA-1C9B-46AE-964B-826B1D20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B9-E285-4D69-9DB9-EC425354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4C0-8518-4DF4-944F-261E8921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A4-7643-4F0F-BDD6-D604C2C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E5-7B96-4462-B8D5-B3F69C31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456-F8C3-474E-8C18-C958F33C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F3C-1EC1-4BE0-8A14-1A43F80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A14-D9D6-4EFB-B169-68F540F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1FF-103A-4823-98AB-4EED8E9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ED2-567C-40EA-8494-CB935FE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7BA-0093-479D-B991-AC5E3746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705D0-93AA-4390-A474-A2861224B7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