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461482"/>
        <c:axId val="84786581"/>
      </c:barChart>
      <c:catAx>
        <c:axId val="97461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6581"/>
        <c:crosses val="autoZero"/>
        <c:auto val="1"/>
        <c:lblAlgn val="ctr"/>
        <c:lblOffset val="100"/>
        <c:noMultiLvlLbl val="0"/>
      </c:catAx>
      <c:valAx>
        <c:axId val="84786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61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709-CEC0-4CA1-9398-5B7330D5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143-1900-401E-B4A1-3403448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859-C6E5-4CDF-A99C-0DFAC6E6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5FFC-83B6-4B7A-B735-42F3A7BB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E8A-819A-4779-8D62-A4B37EB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218-CDCD-4625-83F4-790B65A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CFA-A78B-40A0-82D1-B449D7F5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7A6-C6C2-454F-BD26-87EEC514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157-E4EF-4372-AABB-2752339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58A8-42C2-45A7-878D-234E8FF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831E-9CD6-4F05-8906-3935A43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3F8-AF3E-4799-B3B3-C80C78DE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79FE9-BF85-4A25-A575-266464E83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