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87359"/>
        <c:axId val="5508965"/>
      </c:barChart>
      <c:catAx>
        <c:axId val="17287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8965"/>
        <c:crosses val="autoZero"/>
        <c:auto val="1"/>
        <c:lblAlgn val="ctr"/>
        <c:lblOffset val="100"/>
        <c:noMultiLvlLbl val="0"/>
      </c:catAx>
      <c:valAx>
        <c:axId val="5508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87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F9F-45A6-4C81-8BDC-C862ABC1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631-CDE3-4A56-94B8-AB3C3B85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5E2-3FE5-4C3A-874D-47FB1F8E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BA2-A33A-4CAC-AE61-93BFEA9E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265-758D-4FF0-8B07-FBD25B6A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CA3-71D1-4E19-B7F1-D99EF762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EA7-74AF-4904-B357-08DCBE93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4F5-5A7F-49CD-9F3D-C6BFEF0A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CFB-DE0B-4B71-9F36-A68E718D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503-F663-4D3D-8913-FFF376B9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05C-0CC9-49F7-9752-D8B31DE1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41C-6F99-4F9D-A56F-C88BBE3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BC393-D790-473A-97D8-615BDE1C31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