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44621"/>
        <c:axId val="16466546"/>
      </c:barChart>
      <c:catAx>
        <c:axId val="92544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66546"/>
        <c:crosses val="autoZero"/>
        <c:auto val="1"/>
        <c:lblAlgn val="ctr"/>
        <c:lblOffset val="100"/>
        <c:noMultiLvlLbl val="0"/>
      </c:catAx>
      <c:valAx>
        <c:axId val="16466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44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80F-B07B-4FD8-B979-87415747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B63-E39A-4B02-96F8-D5952DD1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E3C-894E-46D6-8836-45D03865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C4F-142C-4A02-8695-D19B3340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475-9F6A-44A6-A6AF-8CC16193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031-BAA2-4DD1-871A-95A424AC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256-A6A0-4E94-83C5-96EA3703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2F1-BB5F-4B05-A1A1-640D907F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079-5F4D-46B0-BB3F-661D0B83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5E5-453D-4977-862C-0E2B1961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198-EEE4-4B3D-92B2-F0106B76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EED-A763-47D1-982D-E2D47C8B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80DBB-0188-45B5-A299-CD6644368A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