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127545"/>
        <c:axId val="37367679"/>
      </c:barChart>
      <c:catAx>
        <c:axId val="171275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67679"/>
        <c:crosses val="autoZero"/>
        <c:auto val="1"/>
        <c:lblAlgn val="ctr"/>
        <c:lblOffset val="100"/>
        <c:noMultiLvlLbl val="0"/>
      </c:catAx>
      <c:valAx>
        <c:axId val="37367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275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E242-8D30-4EF5-9FBC-1FB7CC77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5DB6-BC8D-44D1-977D-29D90F66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4B09-F43F-4D34-A4A3-318D6D37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764-86E1-4FD8-9160-CF4EE1A6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8B50-7327-4472-A3B1-42B0CFEE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C4D-86D6-4E7D-BDC2-6919DAEE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94A-FD7A-42F9-B0BE-63F9BF32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D0E0-9917-4CE0-A6A1-727E3B18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7024-63A9-43FE-A6F9-95B44F97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F83-8BC0-4B93-BBFD-B8E2E197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E87A-2FB2-477C-A3D1-029AB1E1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FE3C-1A16-481F-B6C9-478767B1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FEA3B-C2E0-4A70-AF68-C918612B39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