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33980"/>
        <c:axId val="17574412"/>
      </c:barChart>
      <c:catAx>
        <c:axId val="24433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74412"/>
        <c:crosses val="autoZero"/>
        <c:auto val="1"/>
        <c:lblAlgn val="ctr"/>
        <c:lblOffset val="100"/>
        <c:noMultiLvlLbl val="0"/>
      </c:catAx>
      <c:valAx>
        <c:axId val="17574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33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8D5-F5A7-4292-95D4-22BE7D9A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A73-2B14-4C5C-AE2B-83943544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856-895A-48A9-887F-9676754E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21F-DDCF-4ECB-98BF-C6B93027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1D7-B7CF-4097-918A-47416CE7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C15-557D-4B20-A883-656C41CB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1BD-1FB8-4849-A0D8-CEDDAFB9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8BE-1CC0-448E-B63E-B8F3BF5C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631-E661-421B-BA5F-4710AFB2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25F-38B7-4DBD-B31D-83F6BE5C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42D-40EA-40BD-B03D-9603A9C8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467-18DD-4EDB-9204-1FBC6593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B2D16-6396-43E3-8E68-A5348C31CC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