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46543"/>
        <c:axId val="98862470"/>
      </c:barChart>
      <c:catAx>
        <c:axId val="52646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62470"/>
        <c:crosses val="autoZero"/>
        <c:auto val="1"/>
        <c:lblAlgn val="ctr"/>
        <c:lblOffset val="100"/>
        <c:noMultiLvlLbl val="0"/>
      </c:catAx>
      <c:valAx>
        <c:axId val="98862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46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D8F-DD0E-46A4-8C9B-782B1C8D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EB7-0D4B-4733-BE95-4BDB398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518-FAD8-4B9E-AE50-09B70044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9FA-9ED4-4E82-AB0C-84B5272B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F48-4893-4691-9503-9CCD63C2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376-B523-4486-B671-8BE00F90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F33-217B-47B5-8BCF-9AA0053A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C20-ED1B-4D08-B3CA-6DDC863B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1EA-56BA-43D0-8914-391C9648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063-DE45-47B9-86B5-5D44AFA1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10A-2C2E-47D3-B788-0C73B38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D5A-3A81-4012-9720-65EBB33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8F8CD-A7F7-41C2-B858-E17473671B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