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6254"/>
        <c:axId val="98506303"/>
      </c:barChart>
      <c:catAx>
        <c:axId val="3646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6303"/>
        <c:crosses val="autoZero"/>
        <c:auto val="1"/>
        <c:lblAlgn val="ctr"/>
        <c:lblOffset val="100"/>
        <c:noMultiLvlLbl val="0"/>
      </c:catAx>
      <c:valAx>
        <c:axId val="98506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6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6F4-2E72-4399-8632-F360DDD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5D5-3547-4CAB-B375-53C69238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ABF-087F-4251-BB66-6466062D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39A-F0CC-4011-8B9D-24003394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D86-2457-4C81-9E56-C6A9073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A98-721B-46D8-AE6A-3FCEE9E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C55-4519-4EFC-9490-D99495CD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74D-612D-483A-B3C6-6557D14B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76-2592-4273-8370-7DC0A4EB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C3B-10A8-43A9-B0E9-1989950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482-9268-41C4-9D12-AB1395F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5CC-8C8B-43B7-A1F7-0740DF29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109B-0F35-4E4F-9D96-119310395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