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75348"/>
        <c:axId val="61263887"/>
      </c:barChart>
      <c:catAx>
        <c:axId val="407753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63887"/>
        <c:crosses val="autoZero"/>
        <c:auto val="1"/>
        <c:lblAlgn val="ctr"/>
        <c:lblOffset val="100"/>
        <c:noMultiLvlLbl val="0"/>
      </c:catAx>
      <c:valAx>
        <c:axId val="61263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753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47C-A60A-4AF1-9CCF-703495F3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2A72-794A-440D-AE87-F246C05D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AE59-35F4-43DB-8358-AFC50E48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5E8-0BC5-42C3-9487-6CB0A5C8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501-E5B7-4629-874D-BCB993E1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FD8-FE8A-4EF1-B4B4-DD2E0A76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BD50-B9EF-42B0-AFF4-E7F18B48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703A-DF0D-4305-BB9B-B91EE95D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F54-6B09-4BA8-B3B5-6AA896F8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9231-F3F9-4B80-852D-1894F6AF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396-12A4-4514-893C-ECC839A2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B4E-0D65-4AED-A175-7FDB0BD9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75689-E023-4B56-B008-1399BF8832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