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7335"/>
        <c:axId val="53554089"/>
      </c:barChart>
      <c:catAx>
        <c:axId val="7825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54089"/>
        <c:crosses val="autoZero"/>
        <c:auto val="1"/>
        <c:lblAlgn val="ctr"/>
        <c:lblOffset val="100"/>
        <c:noMultiLvlLbl val="0"/>
      </c:catAx>
      <c:valAx>
        <c:axId val="53554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E18-82E4-4C3E-A873-FDB3046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C3F-6A0F-4B00-9641-F9FFBAF1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8DC-9167-4E42-A2EB-2FF155CD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ED7-18E4-46EC-A783-9638890D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CB6-72C3-4BA9-9B3A-6B5ED780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88D-748A-4045-8F5F-BC318E22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936-1ED5-47A5-9939-11407A1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749-B475-4286-8494-0F9C03B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53E-FF6F-4087-A3CC-51F038D2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F77-1163-4981-ACD2-C504950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99B-A306-4858-BB9B-7C0CF6B1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1A1-9AE5-4E0C-A1E3-9DE2562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AE777-892C-43DA-9349-7C2A58B00D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