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417292"/>
        <c:axId val="2620714"/>
      </c:barChart>
      <c:catAx>
        <c:axId val="644172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20714"/>
        <c:crosses val="autoZero"/>
        <c:auto val="1"/>
        <c:lblAlgn val="ctr"/>
        <c:lblOffset val="100"/>
        <c:noMultiLvlLbl val="0"/>
      </c:catAx>
      <c:valAx>
        <c:axId val="2620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172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3742-EC9C-433E-8806-DD43DC447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8184-AA5B-48B1-A111-957D6AD1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D9A8-A671-4939-A16F-6B099595E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A504-0A16-4602-9E31-29E187428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FB9B-252B-4F69-8530-BB3456B2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A2A9-DC89-4D00-BB34-82FC9019A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585D-E5B0-43F5-8EE9-A506F22F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2AA8-3D41-4AB7-ACFD-0B8C97F9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494-C75D-4B27-BE96-B5C442C05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028-8E1F-409F-BA88-7E093E64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3C93-22A6-41C7-BA41-2F6A522F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5028-4DA8-4EED-9800-39839A73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297798-3956-4CB2-BF70-4CF834E7F0B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