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61338"/>
        <c:axId val="3385195"/>
      </c:barChart>
      <c:catAx>
        <c:axId val="61161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5195"/>
        <c:crosses val="autoZero"/>
        <c:auto val="1"/>
        <c:lblAlgn val="ctr"/>
        <c:lblOffset val="100"/>
        <c:noMultiLvlLbl val="0"/>
      </c:catAx>
      <c:valAx>
        <c:axId val="3385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61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70E-E07A-4035-A274-E951EDE3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7F2-7F33-4572-81C9-D6275098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504-AAB0-4671-AD9E-E7C93A7A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E8F-A8C5-45BC-BC28-EE355AC3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F8E-879A-481A-B74E-6B14598B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E22-BBF5-431E-8A01-0557A84E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B52-D7CA-4534-B192-E281E1E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1E9-55BB-435D-BEF7-26C8A1D6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33C-43DA-40EB-8AC2-00491CE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245-8B05-4416-A2C6-9E24BF5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C10-4EAA-4B7C-8737-F64CF279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53D-D63A-48D5-85E2-572D1C13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5DC9C-8AF7-4EB3-80B9-9F12E991E4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