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34769"/>
        <c:axId val="79026124"/>
      </c:barChart>
      <c:catAx>
        <c:axId val="98734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26124"/>
        <c:crosses val="autoZero"/>
        <c:auto val="1"/>
        <c:lblAlgn val="ctr"/>
        <c:lblOffset val="100"/>
        <c:noMultiLvlLbl val="0"/>
      </c:catAx>
      <c:valAx>
        <c:axId val="79026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34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06A-9612-45AE-BFAE-89CBB2CF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B19-50A0-408A-A4AC-82939389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893-1830-4E9C-ACB9-5BC1BE10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5DD-3158-4119-990E-AA6B284C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AE0-BC58-4ECC-A02A-B786A6D6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642-2AC7-45F6-B6D9-38A1C5B9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5E8-4356-4F0A-B4A5-E4C33530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8FD-C919-482B-8B02-D887E20B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BC0-293E-48F1-9C14-EFC5A799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036-46AC-4A2D-88F3-A90898D1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F12-406C-4665-B0BF-8392132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3B1-8D37-4EE8-B786-525460CE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590E3-34B9-4848-929A-9829AEFEF2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