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60836"/>
        <c:axId val="6298186"/>
      </c:barChart>
      <c:catAx>
        <c:axId val="85360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186"/>
        <c:crosses val="autoZero"/>
        <c:auto val="1"/>
        <c:lblAlgn val="ctr"/>
        <c:lblOffset val="100"/>
        <c:noMultiLvlLbl val="0"/>
      </c:catAx>
      <c:valAx>
        <c:axId val="6298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0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1D0-9CE8-4429-AB91-CB0F7F24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1DB-8BCF-46B3-9282-A508575A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0C0-6DF3-4339-9606-E4C808BD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E64-E9A2-4F8E-AB8E-B68CEA49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433-031C-4768-B33F-AD0EA95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FE2-71E8-4708-A01E-4134593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6F5-9C2D-4577-A403-DECA810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EC-5FCA-4D78-A4F7-5B4D237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80A-EEFA-4212-B685-4EBA4B6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EB4-9BE1-4AD8-9147-8096592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ECA-C6AC-4A86-9DD8-F9A9B7B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962-A931-4210-A899-F320573D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C7714-C6D8-4F1B-8677-C20A5BF8B6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