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97291"/>
        <c:axId val="6264083"/>
      </c:barChart>
      <c:catAx>
        <c:axId val="44997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083"/>
        <c:crosses val="autoZero"/>
        <c:auto val="1"/>
        <c:lblAlgn val="ctr"/>
        <c:lblOffset val="100"/>
        <c:noMultiLvlLbl val="0"/>
      </c:catAx>
      <c:valAx>
        <c:axId val="6264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97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F24-4E76-4C9A-96ED-65E2DAA1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4D1-A7ED-43CE-A865-05A98270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C9A-BFB9-478E-BB33-AA5FBDF7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182-5315-4387-898B-A3275EAA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E9D-BBFD-478D-B889-611E0C9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267-2AAD-4CF4-B15C-D16CC2C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ED3-5F0B-4068-99E1-46C59600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0AB-9142-4018-9C2E-A38D8E6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183-5541-4DB8-90EB-641338E5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85F-1DC3-46CC-8AC7-23F22107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C69-3AC1-4EEA-A404-6227386A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568-F8B0-46F0-AA1B-E9C9191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E441A-ACEC-41A9-8E38-8F3B640A2D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