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63441"/>
        <c:axId val="86949486"/>
      </c:barChart>
      <c:catAx>
        <c:axId val="20263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49486"/>
        <c:crosses val="autoZero"/>
        <c:auto val="1"/>
        <c:lblAlgn val="ctr"/>
        <c:lblOffset val="100"/>
        <c:noMultiLvlLbl val="0"/>
      </c:catAx>
      <c:valAx>
        <c:axId val="86949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63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455-FDBF-4A1F-8C2C-EFAA5E88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738-A4CD-4E92-BA1A-61D06080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6DD-0D6D-441C-8E8C-2A1196BF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06C-E822-4501-A2BC-98903506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443-645D-4554-9A9D-E9A0B86B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E0D-A74F-4577-BAF3-E993572B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D020-FE75-4DD0-B8B6-9B1F55BE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FFB-5431-47A6-8377-1ADB1DC3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A32-BF01-445E-BB52-6A391977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323-C604-46B1-B721-80AF4D19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BF0-5497-44E5-9085-E4F01E58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B409-410F-4141-8726-56126CCB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E575E-368D-4FCA-89EF-D9A4D4AC44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