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97783"/>
        <c:axId val="36922468"/>
      </c:barChart>
      <c:catAx>
        <c:axId val="67197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2468"/>
        <c:crosses val="autoZero"/>
        <c:auto val="1"/>
        <c:lblAlgn val="ctr"/>
        <c:lblOffset val="100"/>
        <c:noMultiLvlLbl val="0"/>
      </c:catAx>
      <c:valAx>
        <c:axId val="36922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97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BD0-0910-4699-8315-3F3C746A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24F-0D4D-42C3-B5E9-66AD0BF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752-375D-4434-9686-F7404922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EA1-D9E8-4153-906B-1FA35707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819-982A-44B5-8B94-B4CB1BEA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7F5-BD52-43E6-87EA-9C22EF8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605-D95B-4643-9C4F-F55564C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A65-F83B-4BEF-91AE-90AB1639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BF9-3B7F-4DB5-995A-1ADA899A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BD6-B8E4-4FF8-B280-8D2ADC3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66C-B03B-4AAF-BD18-507E22B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312-057E-4BF2-AD54-B230C27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67C3C-189D-44C1-B500-1C8435FCA2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