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4533854"/>
        <c:axId val="18120943"/>
      </c:barChart>
      <c:catAx>
        <c:axId val="6453385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120943"/>
        <c:crosses val="autoZero"/>
        <c:auto val="1"/>
        <c:lblAlgn val="ctr"/>
        <c:lblOffset val="100"/>
        <c:noMultiLvlLbl val="0"/>
      </c:catAx>
      <c:valAx>
        <c:axId val="1812094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53385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F8A29-3325-4CFE-8DB5-3988B0E99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AF6DC-3F19-4484-B338-8427A3335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BD4AA-7935-4B38-BFEB-63C66E7C8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E3135-1CFF-461A-A29E-577B9AFAF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FF904-B7D6-476F-A80A-D3ACE5034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D78BB-DF7A-4CE1-8459-D7642E22B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258B5-34B9-4E76-B431-3A90E84CD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0D01E-1D75-4777-B255-FE8861225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9C061-8217-44C1-AD2B-8F61C8EF3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C41D4-DA19-4DCC-A84D-8B482F570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7C2EC-97A8-4A7A-9D69-886E8F822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93545-A1CB-4D37-BA80-116768A3D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4397AD-960F-492C-BAD1-4B02F0250ED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