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7263"/>
        <c:axId val="94462338"/>
      </c:barChart>
      <c:catAx>
        <c:axId val="4347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62338"/>
        <c:crosses val="autoZero"/>
        <c:auto val="1"/>
        <c:lblAlgn val="ctr"/>
        <c:lblOffset val="100"/>
        <c:noMultiLvlLbl val="0"/>
      </c:catAx>
      <c:valAx>
        <c:axId val="944623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7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2B9-658C-485E-BB4A-117FB524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146-D28D-4723-BC52-B4A7C116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A62-E951-434D-9683-5E08E62A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8B7-308E-4E03-B891-E052BFC5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135-25E1-40FC-B691-0CF4A558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90A-D6D1-4C04-B868-B658118F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A59-DFFD-4848-948E-278A007D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475-5539-4CD2-BA15-1B4E3F95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DFA-3F9C-4E34-8DCE-CFF8AB44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BC0-58DC-4B47-8FA6-CCCE05B6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C6D-23B9-4B6E-8FC2-C5A9DCF2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359-ED1E-4AA1-803C-C2FC5C8C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370DC-AA36-4834-84CD-BCA6A81E76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