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7259"/>
        <c:axId val="94093788"/>
      </c:barChart>
      <c:catAx>
        <c:axId val="1307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93788"/>
        <c:crosses val="autoZero"/>
        <c:auto val="1"/>
        <c:lblAlgn val="ctr"/>
        <c:lblOffset val="100"/>
        <c:noMultiLvlLbl val="0"/>
      </c:catAx>
      <c:valAx>
        <c:axId val="94093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7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33F-A78D-48DC-B63F-2AF9BD66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D19-FAF6-456B-A3C1-F6D804C8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3827-2E7D-414D-B2EC-DBC701A7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B4BB-4203-43E9-9406-3AD00C11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496-FD69-4A77-961D-DD6BC4B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09E-862C-4277-9C27-BD08BE6C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012-ECA9-46A7-8F6A-DCDF49B3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268-E4E4-4F2F-8B30-ACEB807E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B05-7741-4128-B9FD-4943B9B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FCD-379C-43C7-B4C0-0E7B7772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A92-73D2-4888-BEC4-10527A6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761-D4EA-43C7-807D-3CE2AEEC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DAEB2-4C69-4D82-9B5F-2BA8D8BBE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