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95197"/>
        <c:axId val="15797209"/>
      </c:barChart>
      <c:catAx>
        <c:axId val="622951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97209"/>
        <c:crosses val="autoZero"/>
        <c:auto val="1"/>
        <c:lblAlgn val="ctr"/>
        <c:lblOffset val="100"/>
        <c:noMultiLvlLbl val="0"/>
      </c:catAx>
      <c:valAx>
        <c:axId val="15797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951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2FB-7559-4533-9513-0ADDBE56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7482-46FB-4371-AB59-A93CBF2A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14F-3286-43BB-8867-754B60F4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977A-8E7E-4A5D-8A93-75DCEAC9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B3A-4697-4F28-B438-00BE875D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279-B7B1-4895-AEC9-E30C0C8E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720-17C5-46DF-95E0-1A58AE12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4903-83BD-4585-BEAC-94691A0D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0C5-0B01-49FD-A8A1-D89405C7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861D-6D91-4B3F-A6DB-0D721A3D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86A4-3C5C-41CF-AAE8-6038FF75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3F35-621A-4B69-9074-BC65190F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12AEB-999E-45EF-B7A3-43D4136F4A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