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628401"/>
        <c:axId val="39898848"/>
      </c:barChart>
      <c:catAx>
        <c:axId val="506284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898848"/>
        <c:crosses val="autoZero"/>
        <c:auto val="1"/>
        <c:lblAlgn val="ctr"/>
        <c:lblOffset val="100"/>
        <c:noMultiLvlLbl val="0"/>
      </c:catAx>
      <c:valAx>
        <c:axId val="398988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284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D505-752A-4312-A4AA-16D796145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EAC4-0F10-47F6-AC22-371A77C1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822E-996A-40B4-85A1-CF537F4B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F500-9393-4860-8CD4-E066A4BC4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A60A-AF01-4482-9E94-3E4C0F87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97EB-89D0-4E82-BEC4-B725AF1F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09B2-3B09-4041-8F6F-F600180F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8A6D-0DD4-40E1-9F36-CB5CFD76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8D93-30F6-485D-89B0-CF7D361F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1DF8-38B2-441D-AB95-E321370C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C0FF-A632-4B0B-9E7F-88B5271E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A042-62CC-4A83-AD87-DE3937D3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B0F9E-30B6-46E5-8931-37AD325E6D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